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7B4B-893D-47B4-BF0D-4BD86B0DA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96C-E76A-4047-86A5-FDC67F60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01F-F706-43A3-8BB5-2350915B2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FD9D-11D9-40FF-AFA6-82E1B3A7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2625-78EB-444E-A6E3-83641FA9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D80-D8D3-4EB4-8C62-2F5A2B51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CAD6-16A0-4BA1-A2FA-FD6425B6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B5E8-7D96-45EA-AAE6-AA2CCBC7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FD29-3509-450A-B327-A324B337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0B52-B041-446F-A5AC-B637F7AA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1CE4-2DF0-4B8D-AE43-B06A0E9C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1564-BF3E-4AFE-8E1D-373CDE1A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3B9F-126B-4B68-ABCF-EC4C3FBC5A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0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9848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9848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5b6a31d98ab4efbfa6b782c2ebfee6dc.jpg"/>
          <p:cNvPicPr/>
          <p:nvPr/>
        </p:nvPicPr>
        <p:blipFill>
          <a:blip r:embed="rId1"/>
          <a:stretch/>
        </p:blipFill>
        <p:spPr>
          <a:xfrm>
            <a:off x="6284880" y="2646360"/>
            <a:ext cx="2286000" cy="171288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2" descr="1582759.jpg"/>
          <p:cNvPicPr/>
          <p:nvPr/>
        </p:nvPicPr>
        <p:blipFill>
          <a:blip r:embed="rId2"/>
          <a:stretch/>
        </p:blipFill>
        <p:spPr>
          <a:xfrm>
            <a:off x="927000" y="573120"/>
            <a:ext cx="1822680" cy="200484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105316_1502875527.jpg"/>
          <p:cNvPicPr/>
          <p:nvPr/>
        </p:nvPicPr>
        <p:blipFill>
          <a:blip r:embed="rId3"/>
          <a:stretch/>
        </p:blipFill>
        <p:spPr>
          <a:xfrm>
            <a:off x="858960" y="2712960"/>
            <a:ext cx="2414520" cy="16099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img9.jpg"/>
          <p:cNvPicPr/>
          <p:nvPr/>
        </p:nvPicPr>
        <p:blipFill>
          <a:blip r:embed="rId4"/>
          <a:stretch/>
        </p:blipFill>
        <p:spPr>
          <a:xfrm>
            <a:off x="3425760" y="639720"/>
            <a:ext cx="2365560" cy="1768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За Берлин.jpg"/>
          <p:cNvPicPr/>
          <p:nvPr/>
        </p:nvPicPr>
        <p:blipFill>
          <a:blip r:embed="rId5"/>
          <a:stretch/>
        </p:blipFill>
        <p:spPr>
          <a:xfrm>
            <a:off x="858960" y="4359240"/>
            <a:ext cx="2371680" cy="21207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6" descr="NAGRADY-VELIKOY-OTEChESTVENNOY-VOYNY-ChAST-7.jpg"/>
          <p:cNvPicPr/>
          <p:nvPr/>
        </p:nvPicPr>
        <p:blipFill>
          <a:blip r:embed="rId6"/>
          <a:stretch/>
        </p:blipFill>
        <p:spPr>
          <a:xfrm>
            <a:off x="6718320" y="4432320"/>
            <a:ext cx="1882800" cy="204768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1712888.jpg"/>
          <p:cNvPicPr/>
          <p:nvPr/>
        </p:nvPicPr>
        <p:blipFill>
          <a:blip r:embed="rId7"/>
          <a:stretch/>
        </p:blipFill>
        <p:spPr>
          <a:xfrm>
            <a:off x="3286080" y="2712960"/>
            <a:ext cx="2925720" cy="16398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1695905.jpg"/>
          <p:cNvPicPr/>
          <p:nvPr/>
        </p:nvPicPr>
        <p:blipFill>
          <a:blip r:embed="rId8"/>
          <a:stretch/>
        </p:blipFill>
        <p:spPr>
          <a:xfrm>
            <a:off x="3859200" y="4286160"/>
            <a:ext cx="2157480" cy="21877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1" descr="1582773.jpg"/>
          <p:cNvPicPr/>
          <p:nvPr/>
        </p:nvPicPr>
        <p:blipFill>
          <a:blip r:embed="rId9"/>
          <a:stretch/>
        </p:blipFill>
        <p:spPr>
          <a:xfrm>
            <a:off x="6431040" y="639720"/>
            <a:ext cx="200016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9848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1285920" y="1214280"/>
            <a:ext cx="678636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Вспомним всех поимённо,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горем вспомним своим,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это надо не мёртвы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это надо - живы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ahoma"/>
              </a:rPr>
              <a:t>Р.Рождествен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Users\cab-213\Desktop\lenta.png"/>
          <p:cNvPicPr/>
          <p:nvPr/>
        </p:nvPicPr>
        <p:blipFill>
          <a:blip r:embed="rId1"/>
          <a:stretch/>
        </p:blipFill>
        <p:spPr>
          <a:xfrm>
            <a:off x="0" y="4357800"/>
            <a:ext cx="914400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9848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9" descr="573c604ae646c154c3d824bf.png"/>
          <p:cNvPicPr/>
          <p:nvPr/>
        </p:nvPicPr>
        <p:blipFill>
          <a:blip r:embed="rId1"/>
          <a:stretch/>
        </p:blipFill>
        <p:spPr>
          <a:xfrm rot="3595800">
            <a:off x="4789080" y="4140000"/>
            <a:ext cx="1419120" cy="24764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2513547650.jpg"/>
          <p:cNvPicPr/>
          <p:nvPr/>
        </p:nvPicPr>
        <p:blipFill>
          <a:blip r:embed="rId2"/>
          <a:stretch/>
        </p:blipFill>
        <p:spPr>
          <a:xfrm>
            <a:off x="5500800" y="328608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F:\ОЗЕРО ИЛЬМЕНЬ\27893452_350448145470362_9035687944614051840_n.jpg"/>
          <p:cNvPicPr/>
          <p:nvPr/>
        </p:nvPicPr>
        <p:blipFill>
          <a:blip r:embed="rId3"/>
          <a:stretch/>
        </p:blipFill>
        <p:spPr>
          <a:xfrm>
            <a:off x="-890640" y="3529080"/>
            <a:ext cx="5638680" cy="332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C:\Users\cab-213\Desktop\lenta.png"/>
          <p:cNvPicPr/>
          <p:nvPr/>
        </p:nvPicPr>
        <p:blipFill>
          <a:blip r:embed="rId4"/>
          <a:stretch/>
        </p:blipFill>
        <p:spPr>
          <a:xfrm>
            <a:off x="0" y="5072040"/>
            <a:ext cx="9144000" cy="280044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4" descr=""/>
          <p:cNvPicPr/>
          <p:nvPr/>
        </p:nvPicPr>
        <p:blipFill>
          <a:blip r:embed="rId5"/>
          <a:stretch/>
        </p:blipFill>
        <p:spPr>
          <a:xfrm>
            <a:off x="347760" y="208080"/>
            <a:ext cx="8673840" cy="43448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8" descr="56ffca98f2c1c153d72f65a2.png"/>
          <p:cNvPicPr/>
          <p:nvPr/>
        </p:nvPicPr>
        <p:blipFill>
          <a:blip r:embed="rId6"/>
          <a:stretch/>
        </p:blipFill>
        <p:spPr>
          <a:xfrm>
            <a:off x="214200" y="-642960"/>
            <a:ext cx="62866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9848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F:\ОЗЕРО ИЛЬМЕНЬ\27892403_1615035398577034_731638887075545088_n.jpg"/>
          <p:cNvPicPr/>
          <p:nvPr/>
        </p:nvPicPr>
        <p:blipFill>
          <a:blip r:embed="rId1"/>
          <a:stretch/>
        </p:blipFill>
        <p:spPr>
          <a:xfrm>
            <a:off x="285840" y="642960"/>
            <a:ext cx="849924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Скругленный прямоугольник 1"/>
          <p:cNvSpPr/>
          <p:nvPr/>
        </p:nvSpPr>
        <p:spPr>
          <a:xfrm>
            <a:off x="1835280" y="836640"/>
            <a:ext cx="6840360" cy="792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80-летие трагедии на озере Ильм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9848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2.jpg"/>
          <p:cNvPicPr/>
          <p:nvPr/>
        </p:nvPicPr>
        <p:blipFill>
          <a:blip r:embed="rId1"/>
          <a:stretch/>
        </p:blipFill>
        <p:spPr>
          <a:xfrm>
            <a:off x="2786040" y="785880"/>
            <a:ext cx="350856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2" descr="Памятник_якутским_стрелка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9848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0021-017-.jpg"/>
          <p:cNvPicPr/>
          <p:nvPr/>
        </p:nvPicPr>
        <p:blipFill>
          <a:blip r:embed="rId1"/>
          <a:srcRect l="3731" t="6062" r="3731" b="6062"/>
          <a:stretch/>
        </p:blipFill>
        <p:spPr>
          <a:xfrm>
            <a:off x="571680" y="430200"/>
            <a:ext cx="7929360" cy="60516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2"/>
          <p:cNvSpPr/>
          <p:nvPr/>
        </p:nvSpPr>
        <p:spPr>
          <a:xfrm>
            <a:off x="7215120" y="6072120"/>
            <a:ext cx="128592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ФИЛЬ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ac090"/>
            </a:gs>
            <a:gs pos="100000">
              <a:srgbClr val="98480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9" descr="573c604ae646c154c3d824bf.png"/>
          <p:cNvPicPr/>
          <p:nvPr/>
        </p:nvPicPr>
        <p:blipFill>
          <a:blip r:embed="rId1"/>
          <a:stretch/>
        </p:blipFill>
        <p:spPr>
          <a:xfrm rot="3595800">
            <a:off x="4789080" y="4140000"/>
            <a:ext cx="1419120" cy="24764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7" descr="2513547650.jpg"/>
          <p:cNvPicPr/>
          <p:nvPr/>
        </p:nvPicPr>
        <p:blipFill>
          <a:blip r:embed="rId2"/>
          <a:stretch/>
        </p:blipFill>
        <p:spPr>
          <a:xfrm>
            <a:off x="5500800" y="328608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F:\ОЗЕРО ИЛЬМЕНЬ\27893452_350448145470362_9035687944614051840_n.jpg"/>
          <p:cNvPicPr/>
          <p:nvPr/>
        </p:nvPicPr>
        <p:blipFill>
          <a:blip r:embed="rId3"/>
          <a:stretch/>
        </p:blipFill>
        <p:spPr>
          <a:xfrm>
            <a:off x="-890640" y="3529080"/>
            <a:ext cx="5638680" cy="3322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cab-213\Desktop\lenta.png"/>
          <p:cNvPicPr/>
          <p:nvPr/>
        </p:nvPicPr>
        <p:blipFill>
          <a:blip r:embed="rId4"/>
          <a:stretch/>
        </p:blipFill>
        <p:spPr>
          <a:xfrm>
            <a:off x="0" y="5072040"/>
            <a:ext cx="9144000" cy="280044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4" descr=""/>
          <p:cNvPicPr/>
          <p:nvPr/>
        </p:nvPicPr>
        <p:blipFill>
          <a:blip r:embed="rId5"/>
          <a:stretch/>
        </p:blipFill>
        <p:spPr>
          <a:xfrm>
            <a:off x="347760" y="208080"/>
            <a:ext cx="8673840" cy="43448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56ffca98f2c1c153d72f65a2.png"/>
          <p:cNvPicPr/>
          <p:nvPr/>
        </p:nvPicPr>
        <p:blipFill>
          <a:blip r:embed="rId6"/>
          <a:stretch/>
        </p:blipFill>
        <p:spPr>
          <a:xfrm>
            <a:off x="214200" y="-642960"/>
            <a:ext cx="628668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3T00:41:08Z</dcterms:created>
  <dc:creator>cab-213</dc:creator>
  <dc:description/>
  <dc:language>en-US</dc:language>
  <cp:lastModifiedBy>user</cp:lastModifiedBy>
  <dcterms:modified xsi:type="dcterms:W3CDTF">2023-02-10T02:00:36Z</dcterms:modified>
  <cp:revision>54</cp:revision>
  <dc:subject/>
  <dc:title>Слайд 1</dc:title>
</cp:coreProperties>
</file>